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6E0C-4DDD-4CA2-871C-81DEA9AA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BB2E-8C7B-4437-BB85-6C5CBDD6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0415-E60D-480E-AC17-E2AC94F27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A912-BD86-4274-8803-EAD1713DD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C823-FEAF-4E14-9640-B86993D6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61BF-A6CE-48B5-A205-471D4CE2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6AA8-9FD9-4D9A-BF8C-96531D1C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AF6F-6265-4513-9DF1-90335032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C087-5777-4AAB-8501-FC486ABD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7E9E-A8E5-4C1F-95F8-79DA36DF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0F8D-8985-4B07-9C15-E7FFDF5C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4594-7BE4-47F9-95D2-FD0B37F7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5648-C92B-427B-8786-78E557837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Prayer of Confession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od of all merc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ive us grace tod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make a fresh sta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know we have not loved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our whole hear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or have we loved our neighbou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s oursel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s we hope to be forgiv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each us how to forgiv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lead us forward in a new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ere neither grudg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or resentment have a par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Jesus Christ our Lor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he leader says a scripture sentence, and then s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ear then Christ’s word of gr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o u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r sins are forgiven.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anks be to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Mark 2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60958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Prayer © 1999, </a:t>
            </a:r>
            <a:r>
              <a:rPr b="0" i="1" lang="en-US" sz="2400" spc="-1" strike="noStrike">
                <a:solidFill>
                  <a:srgbClr val="bbe0e3"/>
                </a:solidFill>
                <a:latin typeface="Arial Narrow"/>
              </a:rPr>
              <a:t>Methodist Worship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0T01:42:10Z</dcterms:created>
  <dc:creator>Anon Anon</dc:creator>
  <dc:description/>
  <dc:language>en-US</dc:language>
  <cp:lastModifiedBy>Anon Anon</cp:lastModifiedBy>
  <dcterms:modified xsi:type="dcterms:W3CDTF">2005-08-16T04:20:57Z</dcterms:modified>
  <cp:revision>17</cp:revision>
  <dc:subject/>
  <dc:title>PowerPoint Presentation</dc:title>
</cp:coreProperties>
</file>